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710767"/>
        <c:axId val="88378308"/>
      </c:barChart>
      <c:catAx>
        <c:axId val="417107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378308"/>
        <c:crosses val="autoZero"/>
        <c:auto val="1"/>
        <c:lblAlgn val="ctr"/>
        <c:lblOffset val="100"/>
        <c:noMultiLvlLbl val="0"/>
      </c:catAx>
      <c:valAx>
        <c:axId val="883783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7107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708F-0E58-4F55-BFB7-73DF616F9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6066-30BF-4FF0-A87C-2A668E1B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60B8-E472-4DA8-AA92-E7F9FD096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FD7C-FDE0-4512-90B6-D57A646D7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BA1B-C2F4-4C35-A64E-7F2BC6C5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1836-7F7E-4B5C-99AC-8B143954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FCF9-8F27-4AF6-917B-DC79556A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FE26-5243-4F37-A1FE-4883B8B0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B033-BC04-401A-84CD-B44EF9BC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18A3-7F7D-45FD-90C7-44D0C16C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EEB6-6B9D-4CCE-A62F-F1E83F68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D9F0-5D32-42D2-9DC9-9A7BAC1A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416BC3-8513-4A83-80DC-4DAC621AB0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