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27077"/>
        <c:axId val="90707113"/>
      </c:barChart>
      <c:catAx>
        <c:axId val="32527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07113"/>
        <c:crosses val="autoZero"/>
        <c:auto val="1"/>
        <c:lblAlgn val="ctr"/>
        <c:lblOffset val="100"/>
        <c:noMultiLvlLbl val="0"/>
      </c:catAx>
      <c:valAx>
        <c:axId val="90707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27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130-925A-42D6-BEAF-AD02297C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419-1639-4BA0-81F4-21796611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F09-0505-4D79-83D4-BA04B7D6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232-45B0-4F61-B4F9-E94DFFD5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D1A-5974-4659-8362-401E0145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B9D-5DB6-4D97-8A54-7422B1F7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89C-FF8D-47DD-8BD1-BE54050D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C3E-3512-4858-86B4-DCBADBEA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22F-1274-486B-8C4B-52BD23B4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756-D76F-4B20-B0F3-07E535CA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2A4-E253-41E2-A147-64B2CF21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EB9-A094-4B22-8170-7EA21D81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CFD7F-7580-44A5-9158-F7DE439226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