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72049"/>
        <c:axId val="8839602"/>
      </c:barChart>
      <c:catAx>
        <c:axId val="27572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9602"/>
        <c:crosses val="autoZero"/>
        <c:auto val="1"/>
        <c:lblAlgn val="ctr"/>
        <c:lblOffset val="100"/>
        <c:noMultiLvlLbl val="0"/>
      </c:catAx>
      <c:valAx>
        <c:axId val="8839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72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AC0-1259-4542-8CC1-DEDD077E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6CF-E2B9-4B34-AF55-C88B1F02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662-1496-4DF2-869E-66A159CF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2FA-91BB-415F-BCC8-3B70BA6C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343-4BA2-48D2-9004-85D74EA8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E18-50BD-4A91-81B7-F8876A42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A3A-9AC1-4C1C-B887-FD3623DF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F93-115E-44D9-BEEE-56119ED6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23D-0A11-436B-A983-B1C0BC97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1A4-5DF2-4544-A9BA-1287B2A1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A6D-9C8C-455E-BA2C-18F7C10E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DEC-E7E2-4B82-A155-92E9F76F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D5BE2-20CF-4A9F-B14F-106E5542CD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