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41052"/>
        <c:axId val="7547466"/>
      </c:barChart>
      <c:catAx>
        <c:axId val="62541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7466"/>
        <c:crosses val="autoZero"/>
        <c:auto val="1"/>
        <c:lblAlgn val="ctr"/>
        <c:lblOffset val="100"/>
        <c:noMultiLvlLbl val="0"/>
      </c:catAx>
      <c:valAx>
        <c:axId val="7547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41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917-36B5-40CF-AC46-0DAD3747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EB3-DA16-4590-B021-C5DCDD7C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D6D-403C-41EE-A240-2D8DCDC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66C-0DFA-496B-B7DB-436591B9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B6D-2DC8-47AF-9C2D-362B5FD9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4E4-A598-49E9-9EB7-0ADAC64C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C6E-DD8F-4408-9DCE-10EC6C3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878-2E9B-4F83-A9C4-81B43D2B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CD6-E93D-44D1-9C7A-1D824D69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B72-7AB6-4C5D-833C-300FD63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E96-1F41-460A-90DA-81DA06B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7F1-B86F-4FF1-9DFD-33AA065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5DFB-EE0F-46C3-9199-E3FC1F1FBE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