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87918"/>
        <c:axId val="49204648"/>
      </c:barChart>
      <c:catAx>
        <c:axId val="26487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04648"/>
        <c:crosses val="autoZero"/>
        <c:auto val="1"/>
        <c:lblAlgn val="ctr"/>
        <c:lblOffset val="100"/>
        <c:noMultiLvlLbl val="0"/>
      </c:catAx>
      <c:valAx>
        <c:axId val="49204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87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A4A-1FBB-451F-B9DA-2024B29E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E61-E93C-4FD1-BBFD-1A363632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B2C-2F78-4F60-A06C-B6620CCB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CA8-24A7-4E38-B18E-87CA895D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47F-9F9B-4888-B762-884931A0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168-13F4-4074-BF17-4FF3F4C7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EB1-A459-4655-9E08-650A27A2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EBE-9255-4B6E-A087-BB4C77AC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593-3888-4A87-A50E-2EDFAF45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E48-B3C0-453E-A5AE-D167EEB2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29A-0F3A-4DA5-BA57-F914C907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AD7-507A-4E84-8AED-41F97EEC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39E60-E6D9-4A78-9D20-7CA7CA1A83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