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64448"/>
        <c:axId val="3415401"/>
      </c:barChart>
      <c:catAx>
        <c:axId val="194644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5401"/>
        <c:crosses val="autoZero"/>
        <c:auto val="1"/>
        <c:lblAlgn val="ctr"/>
        <c:lblOffset val="100"/>
        <c:noMultiLvlLbl val="0"/>
      </c:catAx>
      <c:valAx>
        <c:axId val="34154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644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45CD-41F3-4A55-BDE6-41D98CDB3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2087-D394-4004-9417-B7ACEE12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454-ABAA-4903-9914-7D68B05F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2E72-8FCA-4B8B-9B74-4834AF16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DA13-718D-439C-8273-6CB1A40C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2B50-8DD1-4AA4-AA40-3418BDB3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A2FB-46A9-49FB-B513-03FDA0F4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9C4-6559-4BFA-9D78-4023713D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740F-B2B6-4E94-B53B-0AAC7CE1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708-4341-4988-A770-5B335492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64A9-05E1-4233-9482-6E039F95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C405-DD45-42E5-B56D-8C8A5A0A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44DC3-59FF-4E98-87BF-5CCAD4AC3C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