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32429"/>
        <c:axId val="71183736"/>
      </c:barChart>
      <c:catAx>
        <c:axId val="86332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83736"/>
        <c:crosses val="autoZero"/>
        <c:auto val="1"/>
        <c:lblAlgn val="ctr"/>
        <c:lblOffset val="100"/>
        <c:noMultiLvlLbl val="0"/>
      </c:catAx>
      <c:valAx>
        <c:axId val="71183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32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589-E215-4F13-9785-F18B889F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538-F7EF-4556-89B1-8FF6A55E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A73-6DAB-4CE5-BBF2-B57A1830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535-772E-4593-BAE9-5371936E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1F1-FDED-45AA-833D-18EA76AF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228-3009-4304-B532-E7F39813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4D7-202E-458B-9D8D-A8896E5F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3BF-4E25-44AE-8A9F-F7073049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09F-C40B-41FF-9E24-10CE4968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2B3-E6CD-49D8-9A06-E2B05209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AF2-B3E7-43FF-A109-2901C65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D38-0C4D-48AD-AC11-9BBDB55A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FB3CC-2BD1-412C-89B5-FFE483120C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