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52786"/>
        <c:axId val="27241273"/>
      </c:barChart>
      <c:catAx>
        <c:axId val="32352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41273"/>
        <c:crosses val="autoZero"/>
        <c:auto val="1"/>
        <c:lblAlgn val="ctr"/>
        <c:lblOffset val="100"/>
        <c:noMultiLvlLbl val="0"/>
      </c:catAx>
      <c:valAx>
        <c:axId val="27241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52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AC0-74BF-4990-8B07-9FA3FB85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6D8-3182-4F43-9B7B-D1D1EB4E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3B6-2BAB-4491-BAAB-1064DC7A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4D6-04A5-4BE7-990E-C2E0E161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68A-B181-46E6-B79A-B1C42D72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C58-57F3-4C96-86B7-A440B1FF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99D-D24F-4FC1-8E11-24194478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A08-CCC6-4679-ABB1-CC7568DC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63B-7E58-4C60-8FAF-445145D6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82C-7A90-4096-BC10-C573BF8E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714-2CF2-411C-89F9-6CB136F8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43F-9A2D-450E-8705-47E9E4C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6838B-C8B1-4F6E-B467-28B0734B18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