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53767"/>
        <c:axId val="92543697"/>
      </c:barChart>
      <c:catAx>
        <c:axId val="69453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43697"/>
        <c:crosses val="autoZero"/>
        <c:auto val="1"/>
        <c:lblAlgn val="ctr"/>
        <c:lblOffset val="100"/>
        <c:noMultiLvlLbl val="0"/>
      </c:catAx>
      <c:valAx>
        <c:axId val="92543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53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971-5C81-4F5F-8DD0-7E24FDC7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47A-3573-4352-8013-C5D1217C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6F4-02E3-41D4-BC47-EBCDBA88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8D2-6B18-489A-9792-E289092E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6E3-6459-492F-AAE6-66F86032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878-7AC3-47C0-A277-5276E930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E59-3F62-415D-A109-E9CAA2F5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962-CA17-4E1A-8668-2BD0373F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106-7ECD-4D9C-9E8F-40A464F6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C85-4006-450B-83D3-CFE420B8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0E7-3F74-40F9-971B-D8794F65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613-CD82-480E-B479-709609B2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CE51E-681A-4B83-B8D7-ACD907CFB3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