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56166"/>
        <c:axId val="50468011"/>
      </c:barChart>
      <c:catAx>
        <c:axId val="48356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68011"/>
        <c:crosses val="autoZero"/>
        <c:auto val="1"/>
        <c:lblAlgn val="ctr"/>
        <c:lblOffset val="100"/>
        <c:noMultiLvlLbl val="0"/>
      </c:catAx>
      <c:valAx>
        <c:axId val="50468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56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230-9B79-4859-80E4-D301AA67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895-F3D7-46F3-B824-97C1C327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52C-2A39-4935-925D-87AA422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9D0-C3A6-4ACD-8E67-0A1E8DAE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4E0-4DCC-4563-9D5B-6DAF2327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42F-93C2-4D91-91AC-49C537F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CE4-9816-4F58-A317-1B35776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51E-07B2-4617-A5C6-9A1A09A6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03C-0AA6-4C99-B405-C08D3577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6BF-BCE9-4C46-9E1D-BCABEC7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BA1-0C3E-438E-831C-5F926C1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4D1-99AB-455C-8700-D0CE2BC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E3293-7958-4E96-870D-63BE2A5DB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