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84812"/>
        <c:axId val="33945070"/>
      </c:barChart>
      <c:catAx>
        <c:axId val="42184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45070"/>
        <c:crosses val="autoZero"/>
        <c:auto val="1"/>
        <c:lblAlgn val="ctr"/>
        <c:lblOffset val="100"/>
        <c:noMultiLvlLbl val="0"/>
      </c:catAx>
      <c:valAx>
        <c:axId val="33945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4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B45-3D29-4B69-8388-7C395D3A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E1F-4756-41FB-BA25-57164F4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96C-E270-4924-AEFA-4DFF96E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94B-7C91-4841-985A-5CDAFBBE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BB2-E13A-46C3-BF14-95468A5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105-5362-47B9-811D-694D6B1C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CC4-C790-4181-8C2B-4E2A93A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D0B-DED7-41A5-B0C3-3B42DF3B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6BB-E476-4DDB-A3C4-9B751C70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3A1-91FB-47B1-B085-81F903B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67B-AB5E-4434-B6BC-C27117C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487-1993-47D3-A5E9-AA923B5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5FD0A-A2AE-45E6-A3FA-627C43291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